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0917-BC80-4ADC-8016-6624DBFDD9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8D7F-3CC2-4F30-81BE-C157FB4EDE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D682-AC72-4887-B561-1D087875AD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4990-459B-48B1-8EBE-D202542C9D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B155-E5AC-43EE-9BA4-22E80F74D3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2A67-DCB7-4A96-A622-8C1E4E5F90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9F0B-1683-4ADE-950E-08F6F04533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Supplemental Activity Just for F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y is looking at a zoetrope which is an example of early types of animation.  Visit this link to read more information about zoetropes if interested:  http://en.wikipedia.org/wiki/Zoet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EA83-C5C6-4110-9060-3B8002B56B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Click on flipbook to see an example. (The flipbook link opens this URL:  http://en.wikipedia.org/wiki/File:Daumenkino_ko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s link opens this URL: http://www.dickbalzer.com/Flash_Gallery.360.0.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l Activity Just for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for examples of early animation techniques. This site has interesting information that can be supplemental if desired.  The link takes you here: http://www.dickbalzer.com/Optical_Toys.203.0.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examples of early animation, click on the Optical Toys link at the top or on the left side.  This provides good examples of early animation techniques AND also of Flash animations since the examples are actually Flash mov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B070-610C-4D57-835E-C4EB2D52B9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The cel animation link opens this URL:  http://en.wikipedia.org/wiki/Cel_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liminary soundtrack is recorded after storyboarding to make it easier for the animators to synchronize the motion to the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 (or key) animator draws only enough keyframes to get across the major point of action. They keyframes are then matched to the soundtrack to get them in the correct places (pencil testing). Improvements are made and details added by assistant animators until the director approves the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pproved, the scene goes to the cleanup department. Cleanup animators trace the frames onto a new sheet of paper. Then artists called in-betweeners draw in any missing frames between the keyframes needed to create the illusion of movement. (This process is called tweening). These are then pencil tested and must be ap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finished, they are transferred to a thin piece of transparent plastic called a cel (because it used to be made out of cellulose nitrate). The cels are then painted and photograp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on the link and scroll  thru the Wikipedia page, you can see a picture of an artist painting on a 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White was the first full-length animated feature film. The DVD has an excellent documentary of the making of the film and illustrates the traditional anim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49DA-F0FF-4333-A5ED-DDE4009BB8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weening is the process of creating the frames between the keyfr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 testing can now be done on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7A59-AABF-4149-9714-F1F45F7683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process is still the same until after the animation drawings are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E665-26E8-43E1-8287-CBD18B9F95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l Information: The link below is to a paper written by early computer graphics pioneers and dealing with 3D modeling and texturing of images. This images from this paper can be used to illustrate how objects, or models, can be digitized into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esign.osu.edu/carlson/history/PDFs/ten-hidden-surfac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Students could research the story behind the University of Utah’s famous teapo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7C4B-43EF-418B-B81E-29E7DEE25E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57A32-8C0A-4F8D-A851-C4B03E032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8CF4C-FABE-4500-87F3-FF156D742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6C7D5-A6FF-4DB9-88E7-6A67838A3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39773-9C31-4381-825A-CA46297CB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B424C-1A64-4760-B16C-70055EAE1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A35D3-6CBB-4B86-8133-2B0145C64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ED45B-ACA2-4690-A9AB-DB801EEA6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79A42-AB59-4A64-AA35-1CDBDC754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BD476-C4DA-4A1A-B643-49A3224B1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47592-090E-411A-A001-96DEDEC2B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97ADF-D983-4F17-BCAC-0126DFC75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781FC-7CDD-4B66-8B7D-8573EFCAB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00BC-2716-4F73-B767-4D9181A3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649ED-A1F6-4F69-9189-DB230F294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3C55C-903F-4098-A60D-8312D32BA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F4B5A-675F-46AB-B824-7A121F4BE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C7E26-DE30-4728-8011-E362DB8C6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E036-BE50-432B-8ECB-0CC711AE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773A-2330-4981-863E-2A8D8470F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44B1-96FB-4650-90D0-F77390F59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6D06E-DAE3-4D89-A79C-9994D7136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43FD-8026-42E6-9152-AA4338F2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4680-2E3E-4F03-9859-4471ABBB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DB28-3A3D-48A8-B502-EE48EC71C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B364-33BB-46EA-9271-3E89B453D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3222720" y="304920"/>
            <a:ext cx="11909520" cy="4724280"/>
            <a:chOff x="-3222720" y="304920"/>
            <a:chExt cx="11909520" cy="4724280"/>
          </a:xfrm>
        </p:grpSpPr>
        <p:sp>
          <p:nvSpPr>
            <p:cNvPr id="46" name="Line 1027"/>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1028"/>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1029"/>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2222-C651-4D28-9C36-22ABFFCDE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n.wikipedia.org/wiki/File:Daumenkino_kol.jpg" TargetMode="External"/><Relationship Id="rId3" Type="http://schemas.openxmlformats.org/officeDocument/2006/relationships/hyperlink" Target="http://www.dickbalzer.com/Flash_Gallery.360.0.html"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533160"/>
            <a:ext cx="723888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66"/>
                </a:solidFill>
                <a:latin typeface="Arial"/>
              </a:rPr>
              <a:t>2.02A History of Animation</a:t>
            </a:r>
            <a:endParaRPr b="0" lang="en-US" sz="4000" spc="-1" strike="noStrike">
              <a:solidFill>
                <a:srgbClr val="006666"/>
              </a:solidFill>
              <a:latin typeface="Arial"/>
            </a:endParaRPr>
          </a:p>
        </p:txBody>
      </p:sp>
      <p:sp>
        <p:nvSpPr>
          <p:cNvPr id="98" name="Text Box 4"/>
          <p:cNvSpPr/>
          <p:nvPr/>
        </p:nvSpPr>
        <p:spPr>
          <a:xfrm>
            <a:off x="1219320" y="2743200"/>
            <a:ext cx="44193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 Develop Computer Animation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9" name="Picture 5" descr="cinema"/>
          <p:cNvPicPr/>
          <p:nvPr/>
        </p:nvPicPr>
        <p:blipFill>
          <a:blip r:embed="rId1"/>
          <a:stretch/>
        </p:blipFill>
        <p:spPr>
          <a:xfrm>
            <a:off x="3962520" y="3048120"/>
            <a:ext cx="51814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200" spc="-1" strike="noStrike">
                <a:solidFill>
                  <a:srgbClr val="006666"/>
                </a:solidFill>
                <a:latin typeface="Arial"/>
              </a:rPr>
              <a:t> </a:t>
            </a:r>
            <a:r>
              <a:rPr b="0" lang="en-US" sz="4000" spc="-1" strike="noStrike">
                <a:solidFill>
                  <a:srgbClr val="006666"/>
                </a:solidFill>
                <a:latin typeface="Arial"/>
              </a:rPr>
              <a:t>Generated</a:t>
            </a:r>
            <a:r>
              <a:rPr b="0" lang="en-US" sz="32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tion capture can be used to create animation.</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ors wear special suits that allow the computer to capture their movemen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movements can then be applied to computer-generated graphic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Polar Expres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vatar</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400" y="1905120"/>
            <a:ext cx="777096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aditional animation is defined as the process of creating the illusion of motion by viewing a series of individual drawings successively. </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omputer animation</a:t>
            </a:r>
            <a:r>
              <a:rPr b="0" lang="en-US" sz="2500" spc="-1" strike="noStrike">
                <a:solidFill>
                  <a:srgbClr val="000000"/>
                </a:solidFill>
                <a:latin typeface="Verdana"/>
              </a:rPr>
              <a:t> is creating a digital scene by digitally recording cells, sorting them on an electronic storyboard, and displaying them electronically in succession.</a:t>
            </a:r>
            <a:endParaRPr b="0" lang="en-US" sz="2500" spc="-1" strike="noStrike">
              <a:solidFill>
                <a:srgbClr val="000000"/>
              </a:solidFill>
              <a:latin typeface="Verdana"/>
            </a:endParaRPr>
          </a:p>
        </p:txBody>
      </p:sp>
      <p:sp>
        <p:nvSpPr>
          <p:cNvPr id="123" name="Rectangle 4"/>
          <p:cNvSpPr/>
          <p:nvPr/>
        </p:nvSpPr>
        <p:spPr>
          <a:xfrm>
            <a:off x="1371600" y="228600"/>
            <a:ext cx="701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Bridging</a:t>
            </a:r>
            <a:r>
              <a:rPr b="0" lang="en-US" sz="3000" spc="-1" strike="noStrike">
                <a:solidFill>
                  <a:srgbClr val="006666"/>
                </a:solidFill>
                <a:latin typeface="Arial"/>
              </a:rPr>
              <a:t> </a:t>
            </a:r>
            <a:r>
              <a:rPr b="0" lang="en-US" sz="4000" spc="-1" strike="noStrike">
                <a:solidFill>
                  <a:srgbClr val="006666"/>
                </a:solidFill>
                <a:latin typeface="Arial"/>
              </a:rPr>
              <a:t>the</a:t>
            </a:r>
            <a:r>
              <a:rPr b="0" lang="en-US" sz="3000" spc="-1" strike="noStrike">
                <a:solidFill>
                  <a:srgbClr val="006666"/>
                </a:solidFill>
                <a:latin typeface="Arial"/>
              </a:rPr>
              <a:t> </a:t>
            </a:r>
            <a:r>
              <a:rPr b="0" lang="en-US" sz="4000" spc="-1" strike="noStrike">
                <a:solidFill>
                  <a:srgbClr val="006666"/>
                </a:solidFill>
                <a:latin typeface="Arial"/>
              </a:rPr>
              <a:t>Traditional</a:t>
            </a:r>
            <a:r>
              <a:rPr b="0" lang="en-US" sz="3000" spc="-1" strike="noStrike">
                <a:solidFill>
                  <a:srgbClr val="006666"/>
                </a:solidFill>
                <a:latin typeface="Arial"/>
              </a:rPr>
              <a:t> </a:t>
            </a:r>
            <a:r>
              <a:rPr b="0" lang="en-US" sz="4000" spc="-1" strike="noStrike">
                <a:solidFill>
                  <a:srgbClr val="006666"/>
                </a:solidFill>
                <a:latin typeface="Arial"/>
              </a:rPr>
              <a:t>and</a:t>
            </a:r>
            <a:r>
              <a:rPr b="0" lang="en-US" sz="3000" spc="-1" strike="noStrike">
                <a:solidFill>
                  <a:srgbClr val="006666"/>
                </a:solidFill>
                <a:latin typeface="Arial"/>
              </a:rPr>
              <a:t> </a:t>
            </a:r>
            <a:r>
              <a:rPr b="0" lang="en-US" sz="4000" spc="-1" strike="noStrike">
                <a:solidFill>
                  <a:srgbClr val="006666"/>
                </a:solidFill>
                <a:latin typeface="Arial"/>
              </a:rPr>
              <a:t>Computer</a:t>
            </a:r>
            <a:r>
              <a:rPr b="0" lang="en-US" sz="3000" spc="-1" strike="noStrike">
                <a:solidFill>
                  <a:srgbClr val="006666"/>
                </a:solidFill>
                <a:latin typeface="Arial"/>
              </a:rPr>
              <a:t> </a:t>
            </a:r>
            <a:r>
              <a:rPr b="0" lang="en-US" sz="4000" spc="-1" strike="noStrike">
                <a:solidFill>
                  <a:srgbClr val="006666"/>
                </a:solidFill>
                <a:latin typeface="Arial"/>
              </a:rPr>
              <a:t>Eras</a:t>
            </a:r>
            <a:endParaRPr b="0" lang="en-US" sz="4000" spc="-1" strike="noStrike">
              <a:solidFill>
                <a:srgbClr val="000000"/>
              </a:solidFill>
              <a:latin typeface="Verdana"/>
            </a:endParaRPr>
          </a:p>
        </p:txBody>
      </p:sp>
      <p:sp>
        <p:nvSpPr>
          <p:cNvPr id="124" name="AutoShape 7"/>
          <p:cNvSpPr/>
          <p:nvPr/>
        </p:nvSpPr>
        <p:spPr>
          <a:xfrm>
            <a:off x="3733920" y="3124080"/>
            <a:ext cx="1066680" cy="990720"/>
          </a:xfrm>
          <a:prstGeom prst="downArrow">
            <a:avLst>
              <a:gd name="adj1" fmla="val 50000"/>
              <a:gd name="adj2" fmla="val 25000"/>
            </a:avLst>
          </a:prstGeom>
          <a:solidFill>
            <a:srgbClr val="33cc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Review</a:t>
            </a:r>
            <a:endParaRPr b="0" lang="en-US" sz="40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istory of 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ditional 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Assisted 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Generated Anim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181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rapid display of a sequence of images of 2-D or 3-D artwork or model positions in order to create an illusion of movement. </a:t>
            </a:r>
            <a:endParaRPr b="0" lang="en-US" sz="2900" spc="-1" strike="noStrike">
              <a:solidFill>
                <a:srgbClr val="000000"/>
              </a:solidFill>
              <a:latin typeface="Verdana"/>
            </a:endParaRPr>
          </a:p>
          <a:p>
            <a:pPr marL="343080" indent="-343080">
              <a:spcBef>
                <a:spcPts val="181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es on persistence of vision to create the illusion of movement.</a:t>
            </a:r>
            <a:endParaRPr b="0" lang="en-US" sz="2900" spc="-1" strike="noStrike">
              <a:solidFill>
                <a:srgbClr val="000000"/>
              </a:solidFill>
              <a:latin typeface="Verdana"/>
            </a:endParaRPr>
          </a:p>
          <a:p>
            <a:pPr marL="343080" indent="0">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Persistence of Vision</a:t>
            </a:r>
            <a:endParaRPr b="0" lang="en-US" sz="3600" spc="-1" strike="noStrike">
              <a:solidFill>
                <a:srgbClr val="006666"/>
              </a:solidFill>
              <a:latin typeface="Arial"/>
            </a:endParaRPr>
          </a:p>
        </p:txBody>
      </p:sp>
      <p:pic>
        <p:nvPicPr>
          <p:cNvPr id="103" name="Picture 4" descr="persisetence of vision 1"/>
          <p:cNvPicPr/>
          <p:nvPr/>
        </p:nvPicPr>
        <p:blipFill>
          <a:blip r:embed="rId1">
            <a:lum bright="70000" contrast="-70000"/>
          </a:blip>
          <a:stretch/>
        </p:blipFill>
        <p:spPr>
          <a:xfrm>
            <a:off x="380880" y="304920"/>
            <a:ext cx="8458200" cy="6172200"/>
          </a:xfrm>
          <a:prstGeom prst="rect">
            <a:avLst/>
          </a:prstGeom>
          <a:ln w="0">
            <a:noFill/>
          </a:ln>
        </p:spPr>
      </p:pic>
      <p:sp>
        <p:nvSpPr>
          <p:cNvPr id="104" name="PlaceHolder 2"/>
          <p:cNvSpPr>
            <a:spLocks noGrp="1"/>
          </p:cNvSpPr>
          <p:nvPr>
            <p:ph/>
          </p:nvPr>
        </p:nvSpPr>
        <p:spPr>
          <a:xfrm>
            <a:off x="380880" y="1142640"/>
            <a:ext cx="8229600" cy="426708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early 1800’s, the phenomenon known as </a:t>
            </a:r>
            <a:r>
              <a:rPr b="1" lang="en-US" sz="2900" spc="-1" strike="noStrike">
                <a:solidFill>
                  <a:srgbClr val="000000"/>
                </a:solidFill>
                <a:latin typeface="Verdana"/>
              </a:rPr>
              <a:t>persistence of vision</a:t>
            </a:r>
            <a:r>
              <a:rPr b="0" lang="en-US" sz="2900" spc="-1" strike="noStrike">
                <a:solidFill>
                  <a:srgbClr val="000000"/>
                </a:solidFill>
                <a:latin typeface="Verdana"/>
              </a:rPr>
              <a:t> gave mankind the first glimpse into the modern world of animation.</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ersistence of vision </a:t>
            </a:r>
            <a:r>
              <a:rPr b="0" lang="en-US" sz="2900" spc="-1" strike="noStrike">
                <a:solidFill>
                  <a:srgbClr val="000000"/>
                </a:solidFill>
                <a:latin typeface="Verdana"/>
              </a:rPr>
              <a:t>refers to the way our eyes retain images for a split second longer than they actually appear, making a series of quick flashes appear as one continuous picture.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CA0LUZ8P"/>
          <p:cNvPicPr/>
          <p:nvPr/>
        </p:nvPicPr>
        <p:blipFill>
          <a:blip r:embed="rId1"/>
          <a:stretch/>
        </p:blipFill>
        <p:spPr>
          <a:xfrm>
            <a:off x="5562720" y="2286000"/>
            <a:ext cx="2057400" cy="1917720"/>
          </a:xfrm>
          <a:prstGeom prst="rect">
            <a:avLst/>
          </a:prstGeom>
          <a:ln w="0">
            <a:noFill/>
          </a:ln>
        </p:spPr>
      </p:pic>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ersistence of Vision</a:t>
            </a:r>
            <a:endParaRPr b="0" lang="en-US" sz="4000" spc="-1" strike="noStrike">
              <a:solidFill>
                <a:srgbClr val="006666"/>
              </a:solidFill>
              <a:latin typeface="Arial"/>
            </a:endParaRPr>
          </a:p>
        </p:txBody>
      </p:sp>
      <p:sp>
        <p:nvSpPr>
          <p:cNvPr id="107" name="PlaceHolder 2"/>
          <p:cNvSpPr>
            <a:spLocks noGrp="1"/>
          </p:cNvSpPr>
          <p:nvPr>
            <p:ph/>
          </p:nvPr>
        </p:nvSpPr>
        <p:spPr>
          <a:xfrm>
            <a:off x="1142640" y="1828800"/>
            <a:ext cx="426708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ing a flipbook, you can see the </a:t>
            </a:r>
            <a:r>
              <a:rPr b="0" i="1" lang="en-US" sz="2100" spc="-1" strike="noStrike">
                <a:solidFill>
                  <a:srgbClr val="000000"/>
                </a:solidFill>
                <a:latin typeface="Verdana"/>
              </a:rPr>
              <a:t>persistence of vision</a:t>
            </a:r>
            <a:r>
              <a:rPr b="0" lang="en-US" sz="2100" spc="-1" strike="noStrike">
                <a:solidFill>
                  <a:srgbClr val="000000"/>
                </a:solidFill>
                <a:latin typeface="Verdana"/>
              </a:rPr>
              <a:t> effect in action.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you have a different sequential drawing on each page of the </a:t>
            </a:r>
            <a:r>
              <a:rPr b="0" lang="en-US" sz="2100" spc="-1" strike="noStrike" u="sng">
                <a:solidFill>
                  <a:srgbClr val="006666"/>
                </a:solidFill>
                <a:uFillTx/>
                <a:latin typeface="Verdana"/>
                <a:hlinkClick r:id="rId2"/>
              </a:rPr>
              <a:t>flipbook </a:t>
            </a:r>
            <a:r>
              <a:rPr b="0" lang="en-US" sz="2100" spc="-1" strike="noStrike">
                <a:solidFill>
                  <a:srgbClr val="000000"/>
                </a:solidFill>
                <a:latin typeface="Verdana"/>
              </a:rPr>
              <a:t>and you flip through the pages rapidly, the drawings appear to mov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3"/>
              </a:rPr>
              <a:t>Examples</a:t>
            </a:r>
            <a:r>
              <a:rPr b="0" lang="en-US" sz="2100" spc="-1" strike="noStrike">
                <a:solidFill>
                  <a:srgbClr val="000000"/>
                </a:solidFill>
                <a:latin typeface="Verdana"/>
              </a:rPr>
              <a:t> of Early Anim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54">
                                  <p:stCondLst>
                                    <p:cond delay="0"/>
                                  </p:stCondLst>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6"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raditional</a:t>
            </a:r>
            <a:r>
              <a:rPr b="0" lang="en-US" sz="37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09" name="PlaceHolder 2"/>
          <p:cNvSpPr>
            <a:spLocks noGrp="1"/>
          </p:cNvSpPr>
          <p:nvPr>
            <p:ph/>
          </p:nvPr>
        </p:nvSpPr>
        <p:spPr>
          <a:xfrm>
            <a:off x="914040" y="1827360"/>
            <a:ext cx="776916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lso called </a:t>
            </a:r>
            <a:r>
              <a:rPr b="0" lang="en-US" sz="2400" spc="-1" strike="noStrike">
                <a:solidFill>
                  <a:srgbClr val="cc3300"/>
                </a:solidFill>
                <a:latin typeface="Verdana"/>
              </a:rPr>
              <a:t>cel animation </a:t>
            </a:r>
            <a:r>
              <a:rPr b="0" lang="en-US" sz="2400" spc="-1" strike="noStrike">
                <a:solidFill>
                  <a:srgbClr val="000000"/>
                </a:solidFill>
                <a:latin typeface="Verdana"/>
              </a:rPr>
              <a:t>or hand-drawn animation. </a:t>
            </a:r>
            <a:endParaRPr b="0" lang="en-US" sz="2400" spc="-1" strike="noStrike">
              <a:solidFill>
                <a:srgbClr val="000000"/>
              </a:solidFill>
              <a:latin typeface="Verdan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gins with a storyboar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preliminary soundtrack is recorde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nciled drawings are made by lead animators of keyframes.</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ncil tests are prepare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tists called in-betweeners draw the frames between the keyframes.</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rawings are traced onto cels and painte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nally, they are photographed.</a:t>
            </a:r>
            <a:endParaRPr b="0" lang="en-US" sz="2200" spc="-1" strike="noStrike">
              <a:solidFill>
                <a:srgbClr val="000000"/>
              </a:solidFill>
              <a:latin typeface="Verdana"/>
            </a:endParaRPr>
          </a:p>
        </p:txBody>
      </p:sp>
      <p:sp>
        <p:nvSpPr>
          <p:cNvPr id="110" name="Action Button: Movie 2"/>
          <p:cNvSpPr/>
          <p:nvPr/>
        </p:nvSpPr>
        <p:spPr>
          <a:xfrm>
            <a:off x="3200400" y="236232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13242" y="7301"/>
                </a:moveTo>
                <a:lnTo>
                  <a:pt x="14156" y="7301"/>
                </a:lnTo>
                <a:lnTo>
                  <a:pt x="14539" y="7667"/>
                </a:lnTo>
                <a:lnTo>
                  <a:pt x="23747" y="7667"/>
                </a:lnTo>
                <a:lnTo>
                  <a:pt x="24304" y="8224"/>
                </a:lnTo>
                <a:lnTo>
                  <a:pt x="24304" y="8772"/>
                </a:lnTo>
                <a:lnTo>
                  <a:pt x="26150" y="8772"/>
                </a:lnTo>
                <a:lnTo>
                  <a:pt x="26515" y="8224"/>
                </a:lnTo>
                <a:lnTo>
                  <a:pt x="27255" y="8224"/>
                </a:lnTo>
                <a:lnTo>
                  <a:pt x="27255" y="13376"/>
                </a:lnTo>
                <a:lnTo>
                  <a:pt x="26515" y="13376"/>
                </a:lnTo>
                <a:lnTo>
                  <a:pt x="26150" y="12828"/>
                </a:lnTo>
                <a:lnTo>
                  <a:pt x="24304" y="12828"/>
                </a:lnTo>
                <a:lnTo>
                  <a:pt x="24304" y="14107"/>
                </a:lnTo>
                <a:lnTo>
                  <a:pt x="14722" y="14107"/>
                </a:lnTo>
                <a:lnTo>
                  <a:pt x="14722" y="9877"/>
                </a:lnTo>
                <a:lnTo>
                  <a:pt x="14539" y="9877"/>
                </a:lnTo>
                <a:lnTo>
                  <a:pt x="14156" y="10243"/>
                </a:lnTo>
                <a:lnTo>
                  <a:pt x="13242" y="10243"/>
                </a:lnTo>
                <a:close/>
              </a:path>
            </a:pathLst>
          </a:custGeom>
          <a:solidFill>
            <a:srgbClr val="33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000" spc="-1" strike="noStrike">
                <a:solidFill>
                  <a:srgbClr val="006666"/>
                </a:solidFill>
                <a:latin typeface="Arial"/>
              </a:rPr>
              <a:t> </a:t>
            </a:r>
            <a:r>
              <a:rPr b="0" lang="en-US" sz="4000" spc="-1" strike="noStrike">
                <a:solidFill>
                  <a:srgbClr val="006666"/>
                </a:solidFill>
                <a:latin typeface="Arial"/>
              </a:rPr>
              <a:t>Assisted</a:t>
            </a:r>
            <a:r>
              <a:rPr b="0" lang="en-US" sz="30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12" name="PlaceHolder 2"/>
          <p:cNvSpPr>
            <a:spLocks noGrp="1"/>
          </p:cNvSpPr>
          <p:nvPr>
            <p:ph/>
          </p:nvPr>
        </p:nvSpPr>
        <p:spPr>
          <a:xfrm>
            <a:off x="838080" y="1600200"/>
            <a:ext cx="8305920" cy="4648320"/>
          </a:xfrm>
          <a:prstGeom prst="rect">
            <a:avLst/>
          </a:prstGeom>
          <a:noFill/>
          <a:ln w="0">
            <a:noFill/>
          </a:ln>
        </p:spPr>
        <p:txBody>
          <a:bodyPr anchor="t">
            <a:normAutofit fontScale="96000"/>
          </a:bodyPr>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computer is used to make the animation process quicker and easier.</a:t>
            </a:r>
            <a:endParaRPr b="0" lang="en-US" sz="2600" spc="-1" strike="noStrike">
              <a:solidFill>
                <a:srgbClr val="000000"/>
              </a:solidFill>
              <a:latin typeface="Verdana"/>
            </a:endParaRPr>
          </a:p>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ually involves 2-D images</a:t>
            </a:r>
            <a:endParaRPr b="0" lang="en-US" sz="2600" spc="-1" strike="noStrike">
              <a:solidFill>
                <a:srgbClr val="000000"/>
              </a:solidFill>
              <a:latin typeface="Verdana"/>
            </a:endParaRPr>
          </a:p>
          <a:p>
            <a:pPr lvl="1" marL="713160" indent="-2743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n be hand-drawn and scanned into the computer.</a:t>
            </a:r>
            <a:endParaRPr b="0" lang="en-US" sz="2500" spc="-1" strike="noStrike">
              <a:solidFill>
                <a:srgbClr val="000000"/>
              </a:solidFill>
              <a:latin typeface="Verdana"/>
            </a:endParaRPr>
          </a:p>
          <a:p>
            <a:pPr lvl="1" marL="713160" indent="-2743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n be drawn directly into the computer using graphics tablets.</a:t>
            </a:r>
            <a:endParaRPr b="0" lang="en-US" sz="2500" spc="-1" strike="noStrike">
              <a:solidFill>
                <a:srgbClr val="000000"/>
              </a:solidFill>
              <a:latin typeface="Verdana"/>
            </a:endParaRPr>
          </a:p>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mages are positioned into keyframes containing the most important movements.</a:t>
            </a:r>
            <a:endParaRPr b="0" lang="en-US" sz="2600" spc="-1" strike="noStrike">
              <a:solidFill>
                <a:srgbClr val="000000"/>
              </a:solidFill>
              <a:latin typeface="Verdana"/>
            </a:endParaRPr>
          </a:p>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weening is then performed by the computer to create images between keyframes.</a:t>
            </a:r>
            <a:endParaRPr b="0" lang="en-US" sz="2600" spc="-1" strike="noStrike">
              <a:solidFill>
                <a:srgbClr val="000000"/>
              </a:solidFill>
              <a:latin typeface="Verdan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400" spc="-1" strike="noStrike">
                <a:solidFill>
                  <a:srgbClr val="006666"/>
                </a:solidFill>
                <a:latin typeface="Arial"/>
              </a:rPr>
              <a:t> </a:t>
            </a:r>
            <a:r>
              <a:rPr b="0" lang="en-US" sz="4000" spc="-1" strike="noStrike">
                <a:solidFill>
                  <a:srgbClr val="006666"/>
                </a:solidFill>
                <a:latin typeface="Arial"/>
              </a:rPr>
              <a:t>Assisted</a:t>
            </a:r>
            <a:r>
              <a:rPr b="0" lang="en-US" sz="34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Even though computers are now used extensively, many traditional steps are still used.</a:t>
            </a:r>
            <a:endParaRPr b="0" lang="en-US" sz="33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oryboarding </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ncil Testing </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eyframes</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eening</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200" spc="-1" strike="noStrike">
                <a:solidFill>
                  <a:srgbClr val="006666"/>
                </a:solidFill>
                <a:latin typeface="Arial"/>
              </a:rPr>
              <a:t> </a:t>
            </a:r>
            <a:r>
              <a:rPr b="0" lang="en-US" sz="4000" spc="-1" strike="noStrike">
                <a:solidFill>
                  <a:srgbClr val="006666"/>
                </a:solidFill>
                <a:latin typeface="Arial"/>
              </a:rPr>
              <a:t>Generated</a:t>
            </a:r>
            <a:r>
              <a:rPr b="0" lang="en-US" sz="32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16" name="PlaceHolder 2"/>
          <p:cNvSpPr>
            <a:spLocks noGrp="1"/>
          </p:cNvSpPr>
          <p:nvPr>
            <p:ph/>
          </p:nvPr>
        </p:nvSpPr>
        <p:spPr>
          <a:xfrm>
            <a:off x="990360" y="1827360"/>
            <a:ext cx="7692840" cy="464976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l images, objects and animation are created on the computer.</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ypically uses 3-D images.</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ds two steps to the animation process.</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odeling – process of creating a wireframe structure of the 3-D objects and scene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ndering – process of applying colors, textures, shadows, transparency, etc. to create the final image or animation.</a:t>
            </a:r>
            <a:endParaRPr b="0" lang="en-US" sz="2500" spc="-1" strike="noStrike">
              <a:solidFill>
                <a:srgbClr val="000000"/>
              </a:solidFill>
              <a:latin typeface="Verdana"/>
            </a:endParaRPr>
          </a:p>
        </p:txBody>
      </p:sp>
      <p:sp>
        <p:nvSpPr>
          <p:cNvPr id="117" name="Action Button: Movie 1"/>
          <p:cNvSpPr/>
          <p:nvPr/>
        </p:nvSpPr>
        <p:spPr>
          <a:xfrm>
            <a:off x="7429680" y="2819520"/>
            <a:ext cx="723600" cy="838080"/>
          </a:xfrm>
          <a:custGeom>
            <a:avLst/>
            <a:gdLst>
              <a:gd name="textAreaLeft" fmla="*/ 46800 w 723600"/>
              <a:gd name="textAreaRight" fmla="*/ 676800 w 723600"/>
              <a:gd name="textAreaTop" fmla="*/ 46800 h 838080"/>
              <a:gd name="textAreaBottom" fmla="*/ 791280 h 838080"/>
            </a:gdLst>
            <a:ahLst/>
            <a:rect l="textAreaLeft" t="textAreaTop" r="textAreaRight" b="textAreaBottom"/>
            <a:pathLst>
              <a:path w="21600" h="25016">
                <a:moveTo>
                  <a:pt x="0" y="0"/>
                </a:moveTo>
                <a:lnTo>
                  <a:pt x="21600" y="0"/>
                </a:lnTo>
                <a:lnTo>
                  <a:pt x="21600" y="25016"/>
                </a:lnTo>
                <a:lnTo>
                  <a:pt x="0" y="25016"/>
                </a:lnTo>
                <a:close/>
              </a:path>
              <a:path fill="lightenLess" w="21600" h="25016">
                <a:moveTo>
                  <a:pt x="0" y="0"/>
                </a:moveTo>
                <a:lnTo>
                  <a:pt x="21600" y="0"/>
                </a:lnTo>
                <a:lnTo>
                  <a:pt x="20200" y="1400"/>
                </a:lnTo>
                <a:lnTo>
                  <a:pt x="1400" y="1400"/>
                </a:lnTo>
                <a:close/>
              </a:path>
              <a:path fill="darken" w="21600" h="25016">
                <a:moveTo>
                  <a:pt x="21600" y="0"/>
                </a:moveTo>
                <a:lnTo>
                  <a:pt x="21600" y="25016"/>
                </a:lnTo>
                <a:lnTo>
                  <a:pt x="20200" y="23616"/>
                </a:lnTo>
                <a:lnTo>
                  <a:pt x="20200" y="1400"/>
                </a:lnTo>
                <a:close/>
              </a:path>
              <a:path fill="darkenLess" w="21600" h="25016">
                <a:moveTo>
                  <a:pt x="21600" y="25016"/>
                </a:moveTo>
                <a:lnTo>
                  <a:pt x="0" y="25016"/>
                </a:lnTo>
                <a:lnTo>
                  <a:pt x="1400" y="23616"/>
                </a:lnTo>
                <a:lnTo>
                  <a:pt x="20200" y="23616"/>
                </a:lnTo>
                <a:close/>
              </a:path>
              <a:path fill="lighten" w="21600" h="25016">
                <a:moveTo>
                  <a:pt x="0" y="25016"/>
                </a:moveTo>
                <a:lnTo>
                  <a:pt x="0" y="0"/>
                </a:lnTo>
                <a:lnTo>
                  <a:pt x="1400" y="1400"/>
                </a:lnTo>
                <a:lnTo>
                  <a:pt x="1400" y="23616"/>
                </a:lnTo>
                <a:close/>
              </a:path>
              <a:path fill="darken" w="21600" h="25016">
                <a:moveTo>
                  <a:pt x="3794" y="9009"/>
                </a:moveTo>
                <a:lnTo>
                  <a:pt x="4707" y="9009"/>
                </a:lnTo>
                <a:lnTo>
                  <a:pt x="5090" y="9374"/>
                </a:lnTo>
                <a:lnTo>
                  <a:pt x="14299" y="9374"/>
                </a:lnTo>
                <a:lnTo>
                  <a:pt x="14856" y="9932"/>
                </a:lnTo>
                <a:lnTo>
                  <a:pt x="14856" y="10480"/>
                </a:lnTo>
                <a:lnTo>
                  <a:pt x="16701" y="10480"/>
                </a:lnTo>
                <a:lnTo>
                  <a:pt x="17067" y="9932"/>
                </a:lnTo>
                <a:lnTo>
                  <a:pt x="17806" y="9932"/>
                </a:lnTo>
                <a:lnTo>
                  <a:pt x="17806" y="15084"/>
                </a:lnTo>
                <a:lnTo>
                  <a:pt x="17067" y="15084"/>
                </a:lnTo>
                <a:lnTo>
                  <a:pt x="16701" y="14536"/>
                </a:lnTo>
                <a:lnTo>
                  <a:pt x="14856" y="14536"/>
                </a:lnTo>
                <a:lnTo>
                  <a:pt x="14856" y="15815"/>
                </a:lnTo>
                <a:lnTo>
                  <a:pt x="5273" y="15815"/>
                </a:lnTo>
                <a:lnTo>
                  <a:pt x="5273" y="11585"/>
                </a:lnTo>
                <a:lnTo>
                  <a:pt x="5090" y="11585"/>
                </a:lnTo>
                <a:lnTo>
                  <a:pt x="4707" y="11951"/>
                </a:lnTo>
                <a:lnTo>
                  <a:pt x="3794" y="11951"/>
                </a:lnTo>
                <a:close/>
              </a:path>
            </a:pathLst>
          </a:cu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D Graphics and Animation</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D animations are more complex.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reating 3-D animations involves modeling, animation, and rendering.</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ling is creating broad contours and structure of 3-D objects and scene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imation is determining the motions of the object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ndering involves determining colors, surface textures, and amounts of transparency of objec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2:48:34Z</dcterms:created>
  <dc:creator>tcunning</dc:creator>
  <dc:description/>
  <dc:language>en-US</dc:language>
  <cp:lastModifiedBy>Paige Haney</cp:lastModifiedBy>
  <dcterms:modified xsi:type="dcterms:W3CDTF">2011-10-21T13:30:11Z</dcterms:modified>
  <cp:revision>70</cp:revision>
  <dc:subject/>
  <dc:title>History of Animation</dc:title>
</cp:coreProperties>
</file>